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FEB9B-1398-4493-8AA1-8021286DFB0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C1178B-9D69-4A7E-B6E3-915575384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gure 2:  Sequence and structural properties of cleavage sequenc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 (a) A stacked histogram showing the percentages for which each residue is present at each position in the cleavage sequence, in positives for Granzyme B (G) and Caspase (C), and negatives (N).  The numbering spans from P4 to P4’.  Letters on the plots represent the one-letter code for each amino acid, followed by its percentage at that position.  X (orange) represents the total percentage for all residues that are present in the position at less than 5% frequency.  Amino acids are grouped by general characteristic (Blues: hydrophobic; reds: branched hydrophobic; greens: acidic; teals: basic; purples: uncharged polar). (b) Structural properties of protease cleavage sequence positives and negatives.  (Structure) indicates that DSSP was used to assess structural properties of substrates where a solved structure or good quality model was available; (Sequence) indicates that sequence-based structural prediction methods were used to assess the fe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503241-0712-4EB7-AC9F-E590EE5C7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809-B175-4566-BAF7-7CB34E99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D568-FEE0-4A34-8512-3A85DE10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838-E22C-450F-8A84-D345C4D0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D28-DE1B-4D7F-9884-89A011AC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6002-1F55-4D48-A01D-FA438C12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FABF-BE4D-4427-B49A-29714A09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059-63F4-4CE1-89DA-145758C9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7079-3457-49DF-A874-5BF298A6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E144-9FFC-43E5-97CA-FB86B7A7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5D1D-FE67-4109-8370-8E118C4F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35C9-7C4C-4E1A-A49D-2C1E881E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E4B-CC5B-4A04-93BB-12538598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04629-A2AD-4D40-A4BC-507BFDECE5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99C59-6171-4D0F-83C3-42F9D519F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art 17" descr=""/>
          <p:cNvPicPr/>
          <p:nvPr/>
        </p:nvPicPr>
        <p:blipFill>
          <a:blip r:embed="rId1"/>
          <a:stretch/>
        </p:blipFill>
        <p:spPr>
          <a:xfrm>
            <a:off x="255600" y="401760"/>
            <a:ext cx="6443640" cy="2627280"/>
          </a:xfrm>
          <a:prstGeom prst="rect">
            <a:avLst/>
          </a:prstGeom>
          <a:ln w="0">
            <a:noFill/>
          </a:ln>
        </p:spPr>
      </p:pic>
      <p:pic>
        <p:nvPicPr>
          <p:cNvPr id="49" name="Chart 9" descr=""/>
          <p:cNvPicPr/>
          <p:nvPr/>
        </p:nvPicPr>
        <p:blipFill>
          <a:blip r:embed="rId2"/>
          <a:stretch/>
        </p:blipFill>
        <p:spPr>
          <a:xfrm>
            <a:off x="165240" y="2968560"/>
            <a:ext cx="3127320" cy="2219400"/>
          </a:xfrm>
          <a:prstGeom prst="rect">
            <a:avLst/>
          </a:prstGeom>
          <a:ln w="0">
            <a:noFill/>
          </a:ln>
        </p:spPr>
      </p:pic>
      <p:pic>
        <p:nvPicPr>
          <p:cNvPr id="50" name="Chart 8" descr=""/>
          <p:cNvPicPr/>
          <p:nvPr/>
        </p:nvPicPr>
        <p:blipFill>
          <a:blip r:embed="rId3"/>
          <a:stretch/>
        </p:blipFill>
        <p:spPr>
          <a:xfrm>
            <a:off x="3736800" y="2968560"/>
            <a:ext cx="3127680" cy="221940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167400" y="192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67760" y="291132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3511440" y="4579920"/>
            <a:ext cx="76320" cy="763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511440" y="4973760"/>
            <a:ext cx="76320" cy="759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3511440" y="4770360"/>
            <a:ext cx="76320" cy="76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3554280" y="468468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p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3555720" y="449424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ga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3552840" y="488808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653280" y="291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641160" y="203040"/>
            <a:ext cx="59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4           P3           P2            P1           P1’          P2’           P3’          P4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5" descr=""/>
          <p:cNvPicPr/>
          <p:nvPr/>
        </p:nvPicPr>
        <p:blipFill>
          <a:blip r:embed="rId1"/>
          <a:srcRect l="1227" t="1902" r="1859" b="1902"/>
          <a:stretch/>
        </p:blipFill>
        <p:spPr>
          <a:xfrm>
            <a:off x="152280" y="2158920"/>
            <a:ext cx="64008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0:41:28Z</dcterms:created>
  <dc:creator>David Barkan</dc:creator>
  <dc:description/>
  <dc:language>en-US</dc:language>
  <cp:lastModifiedBy>David Barkan</cp:lastModifiedBy>
  <cp:lastPrinted>2009-09-30T02:40:58Z</cp:lastPrinted>
  <dcterms:modified xsi:type="dcterms:W3CDTF">2010-01-05T10:56:53Z</dcterms:modified>
  <cp:revision>50</cp:revision>
  <dc:subject/>
  <dc:title>Slide 1</dc:title>
</cp:coreProperties>
</file>